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D5329-9204-4CD9-B4A0-372F2E0C5C7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785-9835-4315-AD88-81AB8990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CD8-C13F-49F9-9954-9B65E205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464-6098-4E6E-BD1A-B9231072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15D-6E2F-4170-ABD1-4C5F0640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DE5-9685-4CC3-B45C-AB5B7BE3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743D-C443-4141-8514-B1874E6F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8096-7FF0-49D5-8F01-62A9D0A7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B079-FFCA-4781-9630-58E106EE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412E-1261-470A-B300-E72125E0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7FA2-A88C-43D0-8E5B-AAC0FDD1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EE6-1DE7-4C48-A208-7A6E45F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2FA-E4BC-4C4B-B837-168D0B17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0061-4CC5-4F9F-A0BC-D25F5C0D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86A8-19F2-409D-82E2-F08370D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834D-8943-4A13-9FAA-D9FEB0B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E1EE-F5D9-465C-8953-3CD674DD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8480-C714-443F-8148-55123308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553B9-4F61-44FE-AB34-FA19DEA0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4AC4-2750-426D-AA10-E4F1513F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B88B-ADEA-41B4-B3B9-0DC782DC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C631-7064-45C6-8430-8865BFF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60F1-AFE7-46DF-AF82-03980FFD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AE6-27B8-458C-9A35-83806E18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CEE1-FD9D-470C-B8D1-8D0A5BEF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53A0-F8AC-4BDE-9B6F-7BD92B1E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AD7B-5236-4D4C-A6A8-8660FA2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5F93-EB35-4954-B26C-6D4C8B8F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6CE6-68B9-423D-A1AA-26A16D0D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A6FC-17C8-4F09-93F7-F5636C50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6681-B92A-484D-9A6D-0AAA535E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7625-F0E0-4A30-A00C-00FF259C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19DE-469F-4AB1-BEEC-8D22DB8F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B0DC8-A021-4C7B-8F95-16A9BEA4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AB0-C4D6-43A6-AC2B-37EEEB1A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3B7C-D7E2-4882-B956-344A576A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420B-E55B-40E1-AF3E-DD456E4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6A6B-BCB2-4FED-B10A-C686727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B139-6BAA-4022-A96B-4396D220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220E-9035-4554-8A31-06EE796C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1473-72CF-4033-9222-E842241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81A7-915E-4205-BF81-E5AC4714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FCBC-2FB0-4FB5-A866-EC3C8F78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DBB8-57B8-42FE-ADB1-312E3524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DB6-124E-43C4-96A6-EA43F905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302-4D9B-4EE8-801C-7256FBC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C3C-D442-4076-984D-20C32A93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054-76F1-47E0-B4A3-2C2AD4F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8C8-8718-4E2A-835A-4E198A9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18F9E-E1E7-4CEE-A34A-796DECA8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69329-3F16-4D4D-BB9A-FE39A6A990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2160360"/>
            <a:ext cx="90630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E0F06-CF92-4515-8CE7-1A29FFF21A8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39815-D1FC-42F4-95BD-ECCC8DF5FA4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8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:/Users/marc/Desktop/Osmosekraftwerk%20Referat/VideoOut.avi.WMV" TargetMode="External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Osmosekraft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94580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1800" y="1440000"/>
            <a:ext cx="7558200" cy="52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040360" y="3600360"/>
            <a:ext cx="4680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as Osmosekraftwerk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Aufbau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20720" y="1619280"/>
            <a:ext cx="864072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Wasseraufbereit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alz- und Süßwasser werd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Filtration von grob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rtikeln befre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s geschieht, damit d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mpfindliche Membran n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gesetzt oder gar zersört w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962760" y="2160720"/>
            <a:ext cx="31179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er Druckaustausc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uck des Brackwasserablaufes wird für Salzwasserzulauf genutz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ies geschieht ohne Energieumwandlung unter Erhaltung des hydraulischen Druc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440000" y="2879640"/>
            <a:ext cx="73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b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mbranschicht: Für Salzionen undurchläss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ützschicht: Druckstütze für Membr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296040" y="3240000"/>
            <a:ext cx="3424320" cy="306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60360" y="3060720"/>
            <a:ext cx="558000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Materiali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59640" y="2160720"/>
            <a:ext cx="3060720" cy="4679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20720" y="3060720"/>
            <a:ext cx="5400720" cy="4140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ellulose Acetat (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ünnfilm Composite (TF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Effizien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forderliche Membraneigenschaf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urchlässig für Wass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ndurchlässig für Sal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Kostengünsti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ünn (Minimierung der inneren Reibu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Langlebig(Resistent gegen Faul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Hohe Druckbeständigke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80000" y="4680000"/>
            <a:ext cx="3600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Funktionswei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073240"/>
            <a:ext cx="1007892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3459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Berechnung des osmotischen Drucks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69920" y="2732040"/>
                <a:ext cx="289080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emperatu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93,15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Gaskonstante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,314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mol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t xml:space="preserve">Salzgehalt</m:t>
                        </m:r>
                        <m:r>
                          <m:t xml:space="preserve">der</m:t>
                        </m:r>
                        <m:r>
                          <m:t xml:space="preserve">Ostse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5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r>
                          <m:t xml:space="preserve">Salzgehalt</m:t>
                        </m:r>
                        <m:r>
                          <m:t xml:space="preserve">eines</m:t>
                        </m:r>
                        <m:r>
                          <m:t xml:space="preserve">mündenden</m:t>
                        </m:r>
                        <m:r>
                          <m:t xml:space="preserve">Flusse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271520" y="5219640"/>
                <a:ext cx="70812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ruck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80000" y="2332080"/>
                <a:ext cx="109368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80000" y="1800360"/>
                <a:ext cx="110808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echnung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80360" y="3240000"/>
                <a:ext cx="245880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olare</m:t>
                        </m:r>
                        <m:r>
                          <m:t xml:space="preserve"> </m:t>
                        </m:r>
                        <m:r>
                          <m:t xml:space="preserve">Mass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mit</m:t>
                        </m:r>
                        <m:r>
                          <m:t xml:space="preserve"> </m:t>
                        </m:r>
                        <m:r>
                          <m:t xml:space="preserve">Einheit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mol</m:t>
                            </m:r>
                          </m:den>
                        </m:f>
                      </m:e>
                      <m:e>
                        <m:r>
                          <m:t xml:space="preserve">ist</m:t>
                        </m:r>
                        <m:r>
                          <m:t xml:space="preserve"> </m:t>
                        </m:r>
                        <m:r>
                          <m:t xml:space="preserve">gleich</m:t>
                        </m:r>
                        <m:r>
                          <m:t xml:space="preserve"> </m:t>
                        </m:r>
                        <m:r>
                          <m:t xml:space="preserve">der</m:t>
                        </m:r>
                        <m:r>
                          <m:t xml:space="preserve"> </m:t>
                        </m:r>
                        <m:r>
                          <m:t xml:space="preserve">Atommasse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.</m:t>
                        </m:r>
                      </m:e>
                      <m:e/>
                      <m:e>
                        <m:r>
                          <m:t xml:space="preserve">Atommass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N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2,99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C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5,453</m:t>
                        </m:r>
                        <m:r>
                          <m:t xml:space="preserve">u</m:t>
                        </m:r>
                      </m:e>
                      <m:e/>
                      <m:e>
                        <m:r>
                          <m:t xml:space="preserve">,</m:t>
                        </m:r>
                        <m:r>
                          <m:t xml:space="preserve">daher</m:t>
                        </m:r>
                        <m:r>
                          <m:t xml:space="preserve"> </m:t>
                        </m:r>
                        <m:r>
                          <m:t xml:space="preserve">ist</m:t>
                        </m:r>
                        <m:r>
                          <m:t xml:space="preserve"> </m:t>
                        </m:r>
                        <m:r>
                          <m:t xml:space="preserve">die</m:t>
                        </m:r>
                        <m:r>
                          <m:t xml:space="preserve"> </m:t>
                        </m:r>
                        <m:r>
                          <m:t xml:space="preserve">Molare</m:t>
                        </m:r>
                        <m:r>
                          <m:t xml:space="preserve"> </m:t>
                        </m:r>
                        <m:r>
                          <m:t xml:space="preserve">Mass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von</m:t>
                        </m:r>
                        <m:r>
                          <m:t xml:space="preserve"> </m:t>
                        </m:r>
                        <m:r>
                          <m:t xml:space="preserve">NaC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8,42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mol</m:t>
                            </m:r>
                          </m:den>
                        </m:f>
                        <m: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751200" y="3060720"/>
                <a:ext cx="2908440" cy="26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den>
                        </m:f>
                      </m:e>
                      <m:e/>
                      <m:e>
                        <m:r>
                          <m:t xml:space="preserve">Ostsee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5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58,42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mo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99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/>
                      <m:e>
                        <m:r>
                          <m:t xml:space="preserve">Flus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58,42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mo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017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/>
                      <m:e>
                        <m:r>
                          <m:t xml:space="preserve">Δ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82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6199200"/>
                <a:ext cx="2822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/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82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8,314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93,15</m:t>
                        </m:r>
                        <m:r>
                          <m:t xml:space="preserve">K</m:t>
                        </m:r>
                      </m:e>
                      <m:e/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418,48</m:t>
                        </m:r>
                        <m: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940360" y="7189920"/>
                <a:ext cx="221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100</m:t>
                    </m:r>
                    <m:r>
                      <m:t xml:space="preserve">kP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 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14,18</m:t>
                        </m:r>
                        <m:r>
                          <m:t xml:space="preserve">b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79640" y="2160720"/>
                <a:ext cx="9763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egebe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35160" y="4680000"/>
                <a:ext cx="92556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esucht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er Prototyp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0200" y="4500720"/>
            <a:ext cx="5238720" cy="3060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66 Membranröhren mit 2000m² Membranflä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-4 kW Gesamtleist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kosten von ca. 13mio.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er Energielieferant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Sonnenstrahlung verdunstet Meerwas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Über Wolkenbildung und Niederschlag gelangt dieses Wasser durch Flüsse zurück ins Me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n Flussmündungen kann nun ein Teil der von der Sonne gelieferten Energie durch Osmosekraftwerke in elektrische Energie umgewandelt we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azit: Global gesehen ist die Sonne somit der eigentliche Energieliefer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7280" y="21204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RD Beitrag zum Osmosekraft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Osm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Osmosekraft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Aufbau und Funktionswe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Wirtschaftlichkeit, Entwicklungsstand,                  Effizienz und Umweltverträg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Übersicht über Effizienzeinflüsse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Osmotischer Druck (Stoffmengenkonzentrationsunterschied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ergieverlust durch innere Reibung im Rohr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Membranleistung und Kost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Lage des Kraftwer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ergieeinsatz für Pumpen, Filteranla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ruckerzeugung für Effizienzsteigerung   (Druckumwandl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199280" y="3600360"/>
            <a:ext cx="258120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Einsetzbarkeit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2340000"/>
            <a:ext cx="7740720" cy="4319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20000" y="1596960"/>
            <a:ext cx="3060720" cy="2903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400880" y="4500720"/>
            <a:ext cx="26780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Standortbeisp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öhere Leistung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 Gewässern m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ohem Salzgeh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spiele: 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er, Mittelme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oßer Salzsee(Uta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34880" y="1800360"/>
            <a:ext cx="44244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Energiemarkt im Vergleich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79360" y="2228760"/>
            <a:ext cx="960120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Vor- und Nachteil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96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Vortei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Erneuerbare und umweltfreundliche Energ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Überall dort einsatzfähig, wo Süßwasser auf                  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  Salzwasser triff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Wetterunabhängig, 24/7 Stromerzeug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Nachtei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Aufwendige Entwickl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Mit heutigem Entwicklungsstand kostenintensi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Mögliche Zerstörung von Mikrokultu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Hoher Platzbedar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Wirkungsgrad: 25-3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Geschichte / Entwicklung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000" y="1541520"/>
            <a:ext cx="907092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70er Jahre: Membran für die Entsalzung von Meerwasser wird                      entwickelt und dabei die Möglichkeit entdeckt,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Osmosekraft energietechnisch nutzbar machen zu                       kön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80er Jahre: Zwei Norweger erforschen die theoretischen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Möglichkeiten zur Erzeugung von Osmosekr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997: Zwei norwegische Firmen rufen ein Forschungssprojekt              ins Leb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1: EU– Gelder für die Osmosekraftforsch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3: Statkraft meldet Patent für Osmosekraftmembran an und            errichtet Testan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: Prototypenbau in Tofte bei Os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vember 2009: Prototyp nimmt Betrieb a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Zukunftsaussichten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 Kraftwerk von der Größe eines Fußballstadions könnte mit einer Leistung von 25 Megawatt 30.000 Haushalte versor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r Elbe wäre ein Osmosekraft schwer vorstellbar, da durch die Tiede eine weitläufige Brackwasserzone beste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tweites Potenzial von 1600 bis 1700 tW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21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Lückentext zum Osmosekraftwerk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2920" y="1488960"/>
            <a:ext cx="907092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as Osmosekraftwerk nutzt die Kraft des osmotischen Drucks, welcher sich durch unterschiedliche Salz- konzentrationen zweier ------- 1 ------- ergibt. Diese Lösungen stellen ein Süßwasservorkommen (Fluss) und ein Salzwasservorkommen (------- 2 -------) d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Je größer der Konzentrationsunterschied der beiden Lösungen ist, desto größer ist der Druck und somit auch die ---------- 3 ---------. Als Standorte eignen sich daher nur Orte an denen Süßwasser auf Salzwasser trifft, zum Beispiel        ------- 4 -------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ls Effizienzeinflüsse gelten zum Beispiel die semipermeable ------ 5 ------, der Konzentrationsunterschied der aufeinander treffenden Lösungen und die Lage des Osmosekraftwerkes bzw. die Entfernung zur Salz- und Süßwasserquel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lös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2920" y="165528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as Osmosekraftwerk nutzt die Kraft des osmotischen Drucks, welcher sich durch unterschiedliche Salz- konzentrationen zwei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Lösung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ergibt. Diese Lösungen stellen ein Süßwasservorkommen (Fluss) und ein Salzwasservorkommen (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Meer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) d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Je größer der Konzentrationsunterschied der beiden Lösungen ist, desto größer ist der Druck und somit auch di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Energieausbeut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. Als Standorte eignen sich daher nur Orte an denen Süßwasser auf Salzwasser trifft, zum Beispiel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Flussmündung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ls Effizienzeinflüsse gelten zum Beispiel die semipermeabl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Membra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der Konzentrationsunterschied der aufeinander treffenden Lösungen und die Lage des Osmosekraftwerkes bzw. die Entfernung zur Salz- und Süßwasserquel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Quellen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iffusion / Osmos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u-helmich.de/bio/cyt/reihe02/Diffusion2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edizinfo.de/arzneimittel/resorption/diffusion.s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allig.eduvinet.de/bio/11diffus/diffus14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allig.eduvinet.de/bio/11osmose/osmo11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smosekraftwer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g-o.de/dossier-483-1.html / -483-4.html / -483-5.html / -483-6.html / -483-7.html / -483-8.html / -483-9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ardmediathek.de/ard/servlet/content/3517136?documentId=423203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energy-sources/osmotic-power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Osmotic%2009%20ENG_tcm9-4591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Waterpower_XVI_-_Power_production_based_on_osmotic_pressure_tcm9-5100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HYDRO%202009%20-%20Unleashing%20renewable%20energies%20from%20the%20ocean_tcm9-5099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Druckaustausch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Stoffmengenkonzentr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Universelle_Gaskonstan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gkss.de/public_relations/answers/osmose/index.html.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p.haw-hamburg.de/pers/Watter/ErneuerbareEnergie-Dateien/Osmosekraftwerke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buch-der-synergie.de/c_neu_html/c_06_11_wasser_salintaetsgradient_hydrosphaere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flickr.com/photos/44290727@N07/sets/72157622731791006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wendenenergie.de/Bilder/b_effizienz.jp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maps.google.com/maps/ms?ie=UTF8&amp;oe=UTF8&amp;msa=0&amp;msid=110988255057957786351.000458defae6b7147f5c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books.google.de/books?id=RjFLer1U7cAC&amp;printsec=frontcover&amp;dq=nachhaltige+energiesysteme++holger+watter&amp;cd=1#v=onepage&amp;q&amp;f=fal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52344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92520" y="3060720"/>
            <a:ext cx="42274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RD Beitr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920" y="52344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Osmose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iffusion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die willkürliche Molekularbewegung sind Moleküle und damit auch die Ionen in ständiger Beweg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ilchen vermischen sich, bis ein Gleichgewicht besteht, bzw. eine gleichmäßige Konz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ffusion ist ein langsamer aber fortlaufender Proz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03880" y="5029200"/>
            <a:ext cx="3695760" cy="234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00000" y="5400720"/>
            <a:ext cx="485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Diffusion-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Modellvers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764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inke Seite (rot) = Zuckerlö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te Seite (blau) = Was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mbran lässt Wassermolekü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d Zuckerteilchen du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59280" y="3060720"/>
            <a:ext cx="4140360" cy="450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740720" y="5759280"/>
            <a:ext cx="234000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39640" y="395928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7559640" y="900000"/>
            <a:ext cx="25192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Osmo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Osmose = „Diffusion mit Hindernissen“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ine semipermea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(halbdurchlässige) Membr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stellt das Hindernis d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s entsteht ein osmotischer Druc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Prozess kommt zum Stillstand, wenn osmotisches Gleichgewicht herrscht (p hydrostatisch = p osmotisch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64240" y="2070000"/>
            <a:ext cx="351648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Osmose -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Vers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nötigte Materia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1 Osm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Becherg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pritzflasche mit Was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20g Haushaltszu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Petrisch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Filzst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940360" y="2897280"/>
            <a:ext cx="2340000" cy="45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039160" y="161928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Lückentext zur Osmo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2920" y="1120680"/>
            <a:ext cx="907092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ie Osmose basiert auf dem Effekt der ------- 1 -------, bei dem sich durch eine ständige und willkürliche Bewegung der Moleküle und gleichzeitige Übertragung dieser Bewegungsenergie auf die gelösten ------- 2 -------, eine Durchmischung einstellt. Diese Durchmischung ist fortlaufend, wobei sich das Konzentrationsgefälle in ein gleichmäßiges ------- 3 ------- wandel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 der Osmose ist lediglich ein Hindernis in Form einer -------- 4 -------- / halbdurchlässigen Membran in diesen Prozess eingebunden. Durch diese Membran gelangen nur bestimmte Teilchen, die eine ------- 5 ------- Größe nicht überschreiten. Somit entsteht auf einer Seite von der Membran ein ------- 6 ------- Druck, sofern ein Konzentrations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nterschied der gelösten Teilchen zwischen beiden Seiten besteh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lös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02920" y="1281240"/>
            <a:ext cx="9070920" cy="59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ie Osmose basiert auf dem Effekt d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Diffusio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bei dem sich durch eine ständige und willkürliche Bewegung der Moleküle und gleichzeitige Übertragung dieser Bewegungsenergie auf die gelösten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Ionen / Teilch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eine Durchmischung einstellt. Diese Durchmischung ist fortlaufend, wobei sich das Konzentrationsgefälle in ein gleichmäßiges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Konzentrationsverhältnis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wandel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 der Osmose ist lediglich ein Hindernis in Form ein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semipermeabl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/ halbdurchlässigen Membran in diesen Prozess eingebunden. Durch diese Membran gelangen nur bestimmte Teilchen, die ein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definiert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Größe nicht überschreiten. Somit entsteht auf einer Seite von der Membran ein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osmotischer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Druck, sofern ein Konzentrations-unterschied der gelösten Teilchen zwischen beiden Seiten besteh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Marc Lingenhoff</cp:lastModifiedBy>
  <cp:lastPrinted>2010-04-25T20:00:37Z</cp:lastPrinted>
  <dcterms:modified xsi:type="dcterms:W3CDTF">2010-04-25T19:58:22Z</dcterms:modified>
  <cp:revision>131</cp:revision>
  <dc:subject/>
  <dc:title/>
</cp:coreProperties>
</file>